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5800-CF28-4AF2-959E-130B88032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E508-8AA2-4E0C-BD55-8B28C3721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500-08F8-4C2E-93F5-58723E5C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32E-C705-480F-82F2-64E8182F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5AB-02C1-4418-A4D1-C0B1F5B6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51C-6068-4F4B-B5D7-96A8DD06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4F4-3480-4AF8-AE10-CFF76004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017-9140-4745-9788-CD0986DF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0EB-E9A4-4711-BE73-0070084D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68A-ACDF-4F3D-B7F4-EF607A6E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D0F-6BA1-445D-A8D2-D9975E54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669-2CE6-40A5-8729-D4F38976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DA5-44D7-48E2-BDB6-30EB5BB4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CB0-EBCE-4F54-8E62-016A4D82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C0C7-1133-43EB-B2E5-B5D09533B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piece of blank paper to create your own “Piece of the Pie” foldabl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760"/>
                <a:gridCol w="433404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Harlem Renaissance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use pgs. 896-897 &amp; write facts from each paragra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Harlem Renaissance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use pgs. 896-897 &amp; write facts from each paragra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Langston Hughe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use pgs. 898-900 &amp; write facts from each par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Before You Read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(define speaker, social perspective, archetypal perspective, biographical perspective –pg9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AutoShape 21"/>
          <p:cNvSpPr/>
          <p:nvPr/>
        </p:nvSpPr>
        <p:spPr>
          <a:xfrm>
            <a:off x="3048120" y="2362320"/>
            <a:ext cx="2895480" cy="22860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2438280" y="3127680"/>
            <a:ext cx="4038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Pearson Unit 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59:17Z</dcterms:created>
  <dc:creator>nvasquez</dc:creator>
  <dc:description/>
  <dc:language>en-US</dc:language>
  <cp:lastModifiedBy>nvasquez</cp:lastModifiedBy>
  <dcterms:modified xsi:type="dcterms:W3CDTF">2010-11-07T17:14:19Z</dcterms:modified>
  <cp:revision>3</cp:revision>
  <dc:subject/>
  <dc:title>Pearson Unit 4</dc:title>
</cp:coreProperties>
</file>